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2A6D-D54E-4B4F-A8B3-70BCDE0FC1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difference: coefficient of n is th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level difference: compare with squar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4, 9, 16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evel difference: compare with cub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8, 27, 64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se helpful: look for power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    = 1, 2, 4, 8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lternate: use (-1)  and (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when k is od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when k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difference: coefficient of n is th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level difference: compare with squar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4, 9, 16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evel difference: compare with cub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8, 27, 64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se helpful: look for power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    = 1, 2, 4, 8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lternate: use (-1)  and (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when k is od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when k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ext three terms in the sequence 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ext three terms in the sequence 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th term of a sequence is given by  x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first four terms of th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erm in the sequence 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sequence as a recurrence 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th term of a sequence is given by  x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first four terms of th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erm in the sequence 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sequence as a recurrence 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th term of the sequence +1, -4, +9, -16, +2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th term of the sequence +1, -4, +9, -16, +2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defined by a recurrence relation of the for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      = aM 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that M  = 10, M  = 20, M  = 24, find the value of a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of b and hence find M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defined by a recurrence relation of the for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      = aM 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that M  = 10, M  = 20, M  = 24, find the value of a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of b and hence find M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a set of terms, in a definite order, where the terms are obtained by some r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ite sequence ends after a certain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inite sequence is one that continues indefini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a set of terms, in a definite order, where the terms are obtained by some r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ite sequence ends after a certain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inite sequence is one that continues indefini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5, 7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a sequence of odd numb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term =   2 x 1 – 1  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  term =   2 x 2 – 1  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  term =   2 x 3 – 1  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  term =   2 x n – 1   = 2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5, 7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a sequence of odd numb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term =   2 x 1 – 1  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  term =   2 x 2 – 1  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  term =   2 x 3 – 1  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  term =   2 x n – 1   = 2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urrence relation defines the first term(s) in the sequence and the relation between successive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urrence relation defines the first term(s) in the sequence and the relation between successive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3n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n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loo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ooking for the r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loo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ooking for the r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0A8-31F9-4532-846F-F36E18C6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C65-5C22-4855-B7AA-BF6DB5F8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16E7-C367-4335-BB25-BB3C0D3C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D01-86D9-4471-B5B3-36020C01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2FF4-1D11-40A2-A1A7-29564AE1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9AF5-5417-42F6-A778-1B3EB064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A040-191D-40CE-80CA-0BF68A10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EFB6-5CD8-406A-8D11-4619697D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9983-D29C-4FA0-988A-F98A01AA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98CA-F28C-4F23-9252-A5B7C49C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29E5-E163-4B6D-B73E-F62D4499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4194-857E-47A5-BCDA-DD33913E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B5A7-EA23-44AB-A08C-447BFE83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31DC-2DEB-46DE-B277-840531FE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E2FB-57AE-46BF-A5AE-1CC9284F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0979-D722-4EB5-990D-559DCE338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EA53-CC68-4D61-9805-D1D7BA9A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E351D-3782-43CB-B68B-03D08FE1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05202-97FC-44DC-A616-3D6A0F29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801AA-C828-4BDD-8434-913E18CB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D0AC9-AB34-44DA-B43A-FEAE2C34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F3138-6023-4B57-833E-A6A9EC5B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0CF-67A0-4168-BAF0-F85A9C5D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8AE8E-5969-4A91-9D95-682FEB2D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7625C-C123-465C-93BA-5FBA8FC9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6FE7E-4C00-4347-803C-9C141AB8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BA579-573A-472E-9E1B-5D64CB37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F5BD1-BEE1-4AC3-BEB8-C74A04DC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39A28-3117-428A-962D-290A106B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207A9-EE33-4F1F-AF0D-B0F99E82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40F8D-6B6F-4F86-8FA8-1AE73260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A1287-5FCE-4B7D-BB00-AB7C5F8C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ED2E7-B2E6-4DD9-BEC8-6431CD5D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CCDC-02DA-4E8C-8C9B-33439016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30334-E10F-4235-BF9E-BF1D9F2A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782A0-A1B5-45B8-AEA9-3F048706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0923E-61F9-4B71-92CF-F9B88492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16B17-61B7-4079-906F-DA9190E4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68F7F-DDEB-4980-BC2F-00C9C22B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BB170-BB8B-46F1-B7A1-A51719D5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37205-F31B-403C-8803-648FF88A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43570-61A4-44B9-92D0-AA0D5461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B4E9D-E55E-4152-A374-6C3C411A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A6ED-6693-4732-BAC1-8083DB7E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5B14-72AB-41EC-9BCC-DDD3B6C2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A8E2-2B05-49B1-980E-6A073028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B0E-C70E-4F03-882B-30B04AE8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C29-698D-4AE3-A0A8-E2169D51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39D1-A53A-4A30-9599-6E540BD31D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04F0-8BE3-44C4-ACF5-D4012AFF4B2F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EA7A-C7C8-49B5-954E-2020FDF251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18D9-509D-4EB2-95C4-A059A5DBD0A0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5"/>
          <p:cNvSpPr txBox="1"/>
          <p:nvPr/>
        </p:nvSpPr>
        <p:spPr>
          <a:xfrm rot="3130800">
            <a:off x="3768120" y="3369240"/>
            <a:ext cx="3878280" cy="14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6600ff"/>
                    </a:gs>
                  </a:gsLst>
                  <a:lin ang="20688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EQUENCE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6600ff"/>
                  </a:gs>
                </a:gsLst>
                <a:lin ang="20688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08000" y="62028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Constant difference: coefficient of </a:t>
            </a:r>
            <a:r>
              <a:rPr b="0" i="1" lang="en-GB" sz="24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is the differ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2</a:t>
            </a:r>
            <a:r>
              <a:rPr b="0" lang="en-GB" sz="2400" spc="-1" strike="noStrike" baseline="30000">
                <a:solidFill>
                  <a:srgbClr val="9933ff"/>
                </a:solidFill>
                <a:latin typeface="Comic Sans MS"/>
              </a:rPr>
              <a:t>nd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level difference: compare with square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    = 1, 4, 9, 16, 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9933ff"/>
                </a:solidFill>
                <a:latin typeface="Comic Sans MS"/>
              </a:rPr>
              <a:t>rd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level difference: compare with cube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    = 1, 8, 27, 64, 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None of these helpful: look for powers of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(2     = 1, 2, 4, 8, 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Signs alternate: use (-1)  and (-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-1 when k is odd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+1 when k is ev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3184560" y="4456080"/>
            <a:ext cx="160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5150880" y="349416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926880" y="35002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68580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685800" y="2332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711360" y="31240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ff"/>
                </a:solidFill>
                <a:latin typeface="Arial"/>
              </a:rPr>
              <a:t>n </a:t>
            </a: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-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3"/>
          <p:cNvSpPr/>
          <p:nvPr/>
        </p:nvSpPr>
        <p:spPr>
          <a:xfrm flipH="1">
            <a:off x="3203280" y="4149720"/>
            <a:ext cx="647640" cy="4316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4"/>
          <p:cNvSpPr/>
          <p:nvPr/>
        </p:nvSpPr>
        <p:spPr>
          <a:xfrm>
            <a:off x="5148360" y="4149720"/>
            <a:ext cx="1152360" cy="4316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d the next three terms in the sequence 5, 8, 11, 14,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The nth term of a sequence is given by  x  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Find the first four terms of the sequen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b)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Which term in the sequence is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c)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Express the sequence as a recurrence relatio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075360" y="1268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6014160" y="134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6078240" y="17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6222600" y="1684440"/>
            <a:ext cx="2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Kristen ITC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5573160" y="1611360"/>
            <a:ext cx="2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Kristen ITC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5352840" y="278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5122080" y="3141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1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5150880" y="2852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d the nth term of the sequence +1, -4, +9, -16, +25,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79138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sequence is defined by a recurrence relation of the for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=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a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+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iven that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10,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= 20,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= 24, find the value of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nd t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alue of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nd hence find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450720" y="112536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69848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378108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270180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3420720" y="1844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769644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 set of terms, in a definite order, where the terms are obtained by some ru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250920" y="2205000"/>
            <a:ext cx="76960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inite 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ends after a certain number of te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250920" y="3646440"/>
            <a:ext cx="76960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nfinite 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one that continues indefinit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2808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987640" y="404640"/>
            <a:ext cx="539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, 3, 5, 7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This is a sequence of odd numb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20640" y="1628640"/>
            <a:ext cx="7696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1s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1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68360" y="2133720"/>
            <a:ext cx="7696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2n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2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76280" y="2637000"/>
            <a:ext cx="7696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3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3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539640" y="4941720"/>
            <a:ext cx="7696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n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2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900000" y="2924280"/>
            <a:ext cx="76964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>
            <a:off x="5364000" y="1916280"/>
            <a:ext cx="71640" cy="504720"/>
          </a:xfrm>
          <a:custGeom>
            <a:avLst/>
            <a:gdLst>
              <a:gd name="textAreaLeft" fmla="*/ 0 w 71640"/>
              <a:gd name="textAreaRight" fmla="*/ 2592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5364000" y="2492280"/>
            <a:ext cx="71640" cy="505080"/>
          </a:xfrm>
          <a:custGeom>
            <a:avLst/>
            <a:gdLst>
              <a:gd name="textAreaLeft" fmla="*/ 0 w 71640"/>
              <a:gd name="textAreaRight" fmla="*/ 25920 w 7164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550872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5508720" y="25574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>
            <a:off x="5219280" y="2997360"/>
            <a:ext cx="576360" cy="19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33ff"/>
                </a:solidFill>
                <a:latin typeface="Comic Sans MS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30984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1st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684360" y="170028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2n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84360" y="220500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3r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684360" y="463716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th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162252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363528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3637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363744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3635280" y="48690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33ff"/>
                </a:solidFill>
                <a:latin typeface="Comic Sans MS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30984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1st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684360" y="170028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2n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684360" y="220500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3r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684360" y="463716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th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62252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63528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3637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363744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363528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FINDING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THE FORMULA FOR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THE TERMS OF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A SEQUENC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78920" y="1557000"/>
            <a:ext cx="769644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recurrence relati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efines the first term(s) in the sequence and the relation between successive ter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0256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684360" y="1700280"/>
            <a:ext cx="80643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684360" y="2205000"/>
            <a:ext cx="7632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684360" y="4637160"/>
            <a:ext cx="81356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3</a:t>
            </a: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169380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89856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900360" y="19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9021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90000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395280" y="189000"/>
            <a:ext cx="28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3059280" y="260280"/>
            <a:ext cx="5398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, 8, 11, 14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5"/>
          <p:cNvSpPr/>
          <p:nvPr/>
        </p:nvSpPr>
        <p:spPr>
          <a:xfrm>
            <a:off x="2916360" y="2708280"/>
            <a:ext cx="1008000" cy="20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93840" y="1989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17512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2124000" y="4933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79185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What to look fo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when looking for the rul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defining a sequenc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9:42:18Z</dcterms:created>
  <dc:creator>zafer</dc:creator>
  <dc:description>Sequences - Finding a rule</dc:description>
  <cp:keywords>Sequences - Finding a rule</cp:keywords>
  <dc:language>en-US</dc:language>
  <cp:lastModifiedBy>RomaK</cp:lastModifiedBy>
  <dcterms:modified xsi:type="dcterms:W3CDTF">2015-09-04T09:20:13Z</dcterms:modified>
  <cp:revision>8</cp:revision>
  <dc:subject>Sequences - Finding a rule</dc:subject>
  <dc:title>Sequences - Finding a rule</dc:title>
</cp:coreProperties>
</file>